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9CBA-D3EE-47FE-9E9E-8F0D1130F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70080" y="392148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62D77-4E64-4DE1-A0B5-CF833B318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3900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E55E-A59E-4C98-9381-0ADEC3BEE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2284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7524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7008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2284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7524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4DB9-AFE2-4FAA-A34D-607B4E639E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E934C-7413-4333-97F3-8FC08FB619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3F702-B0FA-4C47-82A4-2F8CB4538B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90F32-1F3B-43A2-AF95-D047DBABAE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A132C-2F8B-4809-8FD3-F9B3C60E1C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AD57A-430E-4830-B7AB-CEC9A210AF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60000" y="691920"/>
            <a:ext cx="75596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1F683-416F-4490-A8B8-AC44E34C0C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20E37-98FB-4E97-AECC-B263D5711F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6B8D-8672-4ACD-85CA-924AA8B0D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3900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B9491-8D4D-4865-B1DC-F22E1C0202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3AD99-07AF-45C8-A898-D2170564BA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70080" y="392148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16922-931B-4B69-B098-3F51C3C4DA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3900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9A412-D02C-4CBC-AD56-8A1AE67629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2284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7524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7008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2284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7524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EB7AE-6C45-4317-96C2-1C162D55DB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C4D9D-BA8B-42EC-93A5-28446676B2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AB0A3-57CF-4672-AB80-0691FC3C6E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B3D4E-0D2C-4642-91B9-5857608685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B21B1-4C28-404B-8D2A-7627C3B46D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07E83-C0E8-45BA-9612-C74A1E31B1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5993-2850-426C-B8BF-E7AF454A79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60000" y="691920"/>
            <a:ext cx="75596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445A1-9655-4D82-875F-DC6988B6C5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FDE23-231B-48FE-AA99-E7DC35CA1D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3900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912BE-8B91-434D-AEB0-B527CDE34F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06C9C-2443-4118-8256-7736C116CB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270080" y="392148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E3CAA-E34F-47DD-B0DC-332551734C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13900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4919D-5A42-4994-8402-832468489C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2284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7524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27008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82284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37524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F38EA-A0C1-48B0-AA2D-54CC3467F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CEC6-F070-42D8-A453-F15FB8BB3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9BF3D-5BAD-4930-85C2-DA04F8739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60000" y="691920"/>
            <a:ext cx="75596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578AE-04BA-42F0-BA30-99D68C7F7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A6C99-30A9-4912-B118-C419630EB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3900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79D6-ABB0-4327-BA83-3300C6AA7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2DFA-D0E6-46BC-878D-C81331CA1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8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108000" y="630828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9E98-2B6B-4600-961D-99AEF70EDA1C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15640" y="2852280"/>
            <a:ext cx="755964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1258560" y="4365360"/>
            <a:ext cx="7488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560" indent="-6156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60" indent="-615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61560" indent="-6156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61560" indent="-615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61560" indent="-615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61560" indent="-615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16"/>
          <p:cNvSpPr/>
          <p:nvPr/>
        </p:nvSpPr>
        <p:spPr>
          <a:xfrm rot="16200000">
            <a:off x="-780120" y="455616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d8227"/>
                </a:solidFill>
                <a:latin typeface="Arial"/>
              </a:rPr>
              <a:t>EuroMP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7"/>
          <p:cNvSpPr/>
          <p:nvPr/>
        </p:nvSpPr>
        <p:spPr>
          <a:xfrm>
            <a:off x="1258920" y="5373720"/>
            <a:ext cx="75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0" lang="de-DE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8"/>
          <p:cNvSpPr/>
          <p:nvPr/>
        </p:nvSpPr>
        <p:spPr>
          <a:xfrm rot="16200000">
            <a:off x="-925560" y="1965600"/>
            <a:ext cx="287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University of Applied Scien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And Arts - Dortmund -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4" descr=""/>
          <p:cNvPicPr/>
          <p:nvPr/>
        </p:nvPicPr>
        <p:blipFill>
          <a:blip r:embed="rId2"/>
          <a:stretch/>
        </p:blipFill>
        <p:spPr>
          <a:xfrm>
            <a:off x="108000" y="0"/>
            <a:ext cx="828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1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7"/>
          <p:cNvSpPr/>
          <p:nvPr/>
        </p:nvSpPr>
        <p:spPr>
          <a:xfrm>
            <a:off x="1042920" y="6237360"/>
            <a:ext cx="810108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19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108000" y="630828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2AA1-8A97-4C4C-9D58-7D061A38DA57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1332000" y="6237000"/>
            <a:ext cx="54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1" marL="363960" indent="-140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2" marL="5598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3" marL="78408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4" marL="10080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5" marL="10080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6" marL="10080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6877080" y="6237360"/>
            <a:ext cx="226692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Felik Budya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3759120" y="13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3"/>
          <p:cNvSpPr/>
          <p:nvPr/>
        </p:nvSpPr>
        <p:spPr>
          <a:xfrm rot="16200000">
            <a:off x="-780120" y="455616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d8227"/>
                </a:solidFill>
                <a:latin typeface="Arial"/>
              </a:rPr>
              <a:t>EuroMP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4"/>
          <p:cNvSpPr/>
          <p:nvPr/>
        </p:nvSpPr>
        <p:spPr>
          <a:xfrm rot="16200000">
            <a:off x="-945360" y="1874880"/>
            <a:ext cx="29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University of Applied Scien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And Arts – Dortmund -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5" descr=""/>
          <p:cNvPicPr/>
          <p:nvPr/>
        </p:nvPicPr>
        <p:blipFill>
          <a:blip r:embed="rId2"/>
          <a:stretch/>
        </p:blipFill>
        <p:spPr>
          <a:xfrm>
            <a:off x="108000" y="0"/>
            <a:ext cx="828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d822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4"/>
          </p:nvPr>
        </p:nvSpPr>
        <p:spPr>
          <a:xfrm>
            <a:off x="108000" y="630828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588E-CD6C-4D47-A1A0-A41B36897A13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5"/>
          </p:nvPr>
        </p:nvSpPr>
        <p:spPr>
          <a:xfrm>
            <a:off x="1332000" y="6237000"/>
            <a:ext cx="518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6877080" y="6237360"/>
            <a:ext cx="226692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Felik Budya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 rot="16200000">
            <a:off x="-780120" y="455616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d8227"/>
                </a:solidFill>
                <a:latin typeface="Arial"/>
              </a:rPr>
              <a:t>EuroMP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1"/>
          <p:cNvSpPr/>
          <p:nvPr/>
        </p:nvSpPr>
        <p:spPr>
          <a:xfrm rot="16200000">
            <a:off x="-945360" y="1945800"/>
            <a:ext cx="29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University of Applied Scien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And Arts – Dortmund -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"/>
          <p:cNvPicPr/>
          <p:nvPr/>
        </p:nvPicPr>
        <p:blipFill>
          <a:blip r:embed="rId2"/>
          <a:stretch/>
        </p:blipFill>
        <p:spPr>
          <a:xfrm>
            <a:off x="108000" y="0"/>
            <a:ext cx="828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19280" y="458100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Felik Budya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1763640" y="1916280"/>
            <a:ext cx="6048360" cy="21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roject Life Cycl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v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roduct Life Cycl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0867-639B-429D-BF6A-984617341EBB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1332000" y="623736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560000" cy="6494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Project life cycle vs Product life cycl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63416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6269040" cy="2724120"/>
          </a:xfrm>
          <a:prstGeom prst="rect">
            <a:avLst/>
          </a:prstGeom>
          <a:ln w="0">
            <a:noFill/>
          </a:ln>
        </p:spPr>
      </p:pic>
      <p:sp>
        <p:nvSpPr>
          <p:cNvPr id="178" name="Oval 6"/>
          <p:cNvSpPr/>
          <p:nvPr/>
        </p:nvSpPr>
        <p:spPr>
          <a:xfrm>
            <a:off x="2556000" y="3068640"/>
            <a:ext cx="403200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A953-92BB-4E9F-856E-AFAA45933D5D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1332000" y="623736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560000" cy="6494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Project life cycle vs Product life cycl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58560" y="1412640"/>
            <a:ext cx="7885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W want to make new BMW 3ser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 Product life cycle start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ea, introduction, growth, mature, decline, and dea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 phase itself become Project life cycle, start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planning, executing, deliv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D83D-CB13-4331-8EBC-60404AE1EDF1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1332000" y="623736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560000" cy="6494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63416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cycle is a Process, that has specific sequence and no 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life cycle have some same concepts with life cycle, the different is in sequence, which is: in life cycle there is specific phase and sequence and no ending and it’s always like that. In Project life cycle there is also a sequence but it’s possible to jump to next phase or back to prior phase and it always has 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life cycle is part of any other life cycle, because Project life cycle applies in al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E9F6-6A2C-465E-911F-19482AE76FFA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1332000" y="623736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58560" y="227628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1619280" y="3573360"/>
            <a:ext cx="7095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 you for your atten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85CD-223F-40B2-8B8E-5811D5C78905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55964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a19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79640" y="1773360"/>
            <a:ext cx="64800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02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02200"/>
                </a:solidFill>
                <a:latin typeface="Arial"/>
              </a:rPr>
              <a:t>Life Cycle Concept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2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02200"/>
                </a:solidFill>
                <a:latin typeface="Arial"/>
              </a:rPr>
              <a:t>Project Life Cycle Concept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2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02200"/>
                </a:solidFill>
                <a:latin typeface="Arial"/>
              </a:rPr>
              <a:t>Product Life Cycle concept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2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02200"/>
                </a:solidFill>
                <a:latin typeface="Arial"/>
              </a:rPr>
              <a:t>Project Life Cycle vs Product Life Cycle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2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022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4DF1-AF59-4AC4-8D16-D2AC105CABF8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1332000" y="623736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560000" cy="6494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Life Cycle Concept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8560" y="1412640"/>
            <a:ext cx="748980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Life Cycl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is continuously &amp; unidirec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is oblig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ginning or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quence cannot b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E396-FC8D-4A7B-9A81-BCC0F5176757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1332000" y="623736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560000" cy="6494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Life Cycle Concept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8560" y="1412640"/>
            <a:ext cx="748980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d – seedling – mature plant – blossom – s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ed cannot go directly to being mature plant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ure plant cannot revert back to a s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0379-622F-486F-B594-7370481AFE30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1332000" y="623736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560000" cy="6494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Project Life Cycle Concept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63416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Project life cycl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is divided into phases to achieve better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the phases that connect the beginning of a project to its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phases vary by project but some general phases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return to prior phase and jump to anothe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uncommon for the next phase to begin without closing the current phase. Also known as ‘Fast Tracking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7851-A4AF-478E-9E5D-815D0FBD304C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1332000" y="623736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560000" cy="6494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Project Life Cycle Concept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63416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772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533C-7B50-43FE-ADF4-8B7656FDBFAB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1332000" y="623736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560000" cy="6494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Product Life Cycle Concept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63416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Product life cycl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life span of a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roduct have very long life s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roduct have very short life s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ssible to jump to another phase or return to prior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s vary by product but some general phases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dea or Research an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ioration (Dec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500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7430-DEB1-4620-87DC-F837E94BF15D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1332000" y="623736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560000" cy="6494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Product Life Cycle Concept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63416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1187280" y="1476360"/>
            <a:ext cx="769968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E099-80EA-49B1-AFF7-A77FBC1C1791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1332000" y="623736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ject Life Cycle vs Product Life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560000" cy="6494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Project life cycle vs Product life cycl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63416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life cycle applies to all projects, regardless of the products being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life cycle models vary considerably based on the nature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management is done in all of the product life cycle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life cycle is part of any other 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9T11:28:58Z</dcterms:created>
  <dc:creator>Fachbereich Wirtschaft</dc:creator>
  <dc:description/>
  <dc:language>en-US</dc:language>
  <cp:lastModifiedBy>K4MIKAZ3</cp:lastModifiedBy>
  <dcterms:modified xsi:type="dcterms:W3CDTF">2008-10-29T20:01:47Z</dcterms:modified>
  <cp:revision>36</cp:revision>
  <dc:subject/>
  <dc:title>Simulation Methods and Educational Educational Games for Project Management</dc:title>
</cp:coreProperties>
</file>